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047-319C-4CC0-B490-B8930B87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BCC-AB22-492C-B966-EA29CD74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B81-6645-4C8A-9991-9869E265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608-DBEF-4080-A438-DC3CEB7C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F7D-7DA5-44E6-9054-3B5EE764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3F6-4936-45D1-9730-31363948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03F-A6D6-40E0-A5E9-83BFA0AD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962-A4F7-456A-B28A-68CF0620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3F1-8AC3-42D3-BC15-426D96FE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39E-CE78-48FF-B8F6-D7CBD409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BBB-E0FE-4100-8635-2410D8F7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2EF-3588-401F-AB66-DBE73BF1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E9CF-3105-45B3-ACF7-E5E411F9C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17640" y="0"/>
            <a:ext cx="1220976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6T10:21:34Z</dcterms:created>
  <dc:creator>Igor Shtein | CyberTeam360</dc:creator>
  <dc:description/>
  <dc:language>en-US</dc:language>
  <cp:lastModifiedBy>Igor Shtein</cp:lastModifiedBy>
  <dcterms:modified xsi:type="dcterms:W3CDTF">2024-02-19T12:57:48Z</dcterms:modified>
  <cp:revision>3</cp:revision>
  <dc:subject/>
  <dc:title>PowerPoint Presentation</dc:title>
</cp:coreProperties>
</file>